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F38D78-1930-4E3F-8D2C-4EF85DA3B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667B99-93DD-4502-BE8F-4C79C6CC3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8F7896-FFD8-4365-9007-F2D990EAA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2391D0-1BF3-42FD-9604-F763C8B0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4566E6-C2A6-4CD8-9966-65E7C6515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F1C485-9DB5-48C5-A0CC-A978CC99B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C6323D-981D-458C-A528-46049C326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7BC4A2-F8E1-4254-8E84-0DCCF4036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4BE7FA-D2E2-4244-B821-A3E019B46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FF7ABB-97A6-48E9-925F-FBA912009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EBA9DA-3002-4C8C-A43E-745D7E774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27018A-BFE8-4257-8028-C3E45790E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A36549-46FE-4BF0-B1AF-8EFE21552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B49E71-2224-4D3A-974C-E081C5BA7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72BB46-05E0-46C3-8D37-4F7EAAD2A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9F288B-48E9-4585-A64C-98411A182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492FBC-8A9F-4DDF-B1BE-C147FE57F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B77B84-EA21-44C2-BA2D-530AC8E0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D4F22D-FF62-4149-A9B7-A1BD0F8A4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EBE040-DCA2-4CE6-9EB2-1442E75D7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C955C0-3E7B-4D24-83D6-D990085EC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1DAA04-F3DB-40C8-B716-6E390C17A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BDC95F-0153-4860-ADDF-619BB7F05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BF820B-53D7-47D2-AA69-216E68588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67EE8E-5070-4B05-8509-5DBD129FF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D63484-B89F-48CD-AA3D-1D612539D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EDE08E-5768-410A-B6B7-203A25A75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5E1082-D580-43EE-9EA5-DD9C9A6D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5DB7A5-238F-456A-9013-741976A9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848BE8-0B4F-442F-A366-0B70C3D9B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C295-27A4-4FD8-B69C-7F9F78880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95B60F-655F-4AC2-AA8A-E9B9D220B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99A6E6-0283-48A4-8E27-6FE7EB518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EEA70A-9E1A-48B6-8933-57BDA6E63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2F9CE6-3C71-48CA-9241-1AADCD2E0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E56249-B2A1-4E92-8F1D-27A6F2712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960F46-7617-4AB5-990C-995CACDFD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698D2B-F28C-4D05-88E8-6D715EE6C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A3E0F3-8585-42FD-BB14-C47755CD8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8E3F6D-5269-42CF-AA54-85C15F686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88B5DA-4D09-478F-97D5-50B19F09C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D700-6E1E-4348-A51A-6C415DDB7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984F3D-299E-4DB9-A463-38715B859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330B7A-A10C-459A-8262-61C07EAB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02A7B2-1D81-49DD-9361-D0E17EE53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EA8717-F9C7-4EBD-A5C4-8478F16F3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2B3EB3-31EF-42E0-9A7A-47B04A73A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B019-B4D5-4794-A762-41078F20B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0BE5-61EE-48AA-AEF0-509808648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34F8-A755-43F5-AD7F-58F711318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0FE6-A9F6-4753-BA7B-5CC8DBD02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E774-4431-4AE8-9C66-EBBD648F9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61D9-A046-4AB1-9DD7-0C5C765A6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28CA-3AC8-4E05-A6DA-5221F868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5C0A-4CB2-45B9-B4A9-1F6EA5D2E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2E09-3BAB-47A9-9BBF-3BCCFF0A8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8014-A63E-4042-9197-611B2AB31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A7470-EB2C-4A1A-A606-A24925067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1E352-0D9A-41CB-BD1E-E98A3FDD6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216A5-7BFF-49A4-8FF3-99DC8B32D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222F5-1479-49F6-B8CE-08364723F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1A527-FD2D-4080-B808-AA106FA99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4EF46-FD28-44D5-99CF-4E1914A27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C2793-E1CF-42D1-8809-97F5B58CB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3F80E-8390-4659-94BF-ADE5C0E6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3613F-8D0C-490B-BD41-1BF37A5A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FA827-F9DD-4C69-80C5-C4D0D945D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478C8-C5A7-4F5B-BDB8-AF46E8EE3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13677-8FCA-4553-9C43-26E284E46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9DE95-EE13-4DFD-A5EE-564FB99B2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3CD20-79D3-4170-8351-B11F44AD3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0AA5C-1179-4BA5-8E1F-F55AE1DEE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87F58-B811-4E58-AB6B-BF4820089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9BE33-2F04-488A-8521-25193A7F4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B0F55-C4A6-4E35-AA12-94310C7CC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B8CB8-00DD-46EE-8F9F-62C69295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55649-2FA0-4560-991D-73D484D3E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A095F-67FF-4C43-8522-F655BD3F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EC8B7-CEF6-4C1B-8CE4-EC21D304E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F0C5E-F2D4-4014-8E5B-A7932330E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2A34F-FD7D-48ED-911B-913AF6347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E7B86-85D7-4A0A-AE43-F4334B98B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0CFDD-04AF-40DA-83A9-5F73A1C98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8F1B8-D9C0-4B10-AE38-3639E7945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86A1E-E355-4879-8565-63AEF75A3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1C644-E514-4861-9742-E7F33F1FD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69245-8F29-4741-9009-024DA0D98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243E1-D15A-4711-B771-B544D44C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2E909-3984-4A01-9D36-274C6FA1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ADE6E-020B-4191-90C7-B23E48983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FF565-ED32-4A9A-BDC7-0FED1263D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BFA83-2F93-4CA0-85DA-745ECE7B6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61A65-005A-484F-A7CF-73E402FE8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E3C45-3D0C-4730-9C10-A4A1C6AC5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DFF1E-57FB-479A-94DF-EA1C271A3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DE29B-22C7-4F38-AB5D-05FF4F25F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2BA140-3BF3-472D-95E5-648128E70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C2494F-0EB1-4865-AA9B-7744AA30C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EA05B-DE24-4653-965A-50AD22CC7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BFA49-51AC-4E72-B3DA-5EBD42DB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0BE329-53D0-4154-9860-ED789352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C2C24E-3B91-42F9-A7FB-E059F4F3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674FBD-CD79-41EE-8C66-D10A7FC48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9210AA-09BD-49CA-9C67-3AFCC3970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7E6BC-91AE-4706-B62D-083139B8E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C483EE-38B2-4A8A-96CC-046D8A7C6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C48131-BB32-4D1F-8E2D-264F22D00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6D0505-255F-44A6-9EF3-57C596303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72D4B-1F22-4919-9F99-FDFD269AB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D4A81A-9EDC-4A86-9F30-71EE83B0E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CE0681-0C69-4675-92B9-08FFBB9DA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D129EC-FFE7-4355-8202-7E368D4B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A98495-DAD0-4179-8A94-4067E1763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05BE34-3DD4-4AB0-BD86-A61914D9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627AAF-4A09-42A9-8C09-5958E626A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0B3EFD-6CC9-4AAC-A680-46DB259FA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594EDB-811D-4C0A-A648-6220A5CDB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D95214-A614-4D69-BC1C-4FD70C99A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EDC85B-4861-49CD-ACDF-6A3417085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A7BE12-8699-48D2-B484-90270D71C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A8C5EA-54D5-4B1D-BAC6-D52292923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361E9F-CB97-46E5-B5B2-F475EAF3E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C0C81C-1EFF-499B-92A5-CF061B979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EBE8CA-7EF0-4B3C-984D-2697290E2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73C342-A907-4FFE-9F2A-EB6828AB1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664194-42DB-4BBF-9DA9-57B057DA6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FF1D14-23D1-41FC-AE18-180117603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31205E-AAB6-447C-BD2D-34DF7FC21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860D61-010F-46B0-BC00-1C978D190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B0078E-291E-448D-99A8-50CE41A7D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DE899C-E339-4F51-B961-019B1CC95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1F85DF-644C-41C9-AEAC-503846802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9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5111B-E756-4D8A-B080-C97354A171E4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4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2E9E2-68E2-4118-8DCF-239B1250C402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8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05FC9-57D4-41AA-9D5A-C87747949EED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4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8361A-53AA-455C-BEFB-3251643009C6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8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8B769-2ECB-4134-BA5E-0FF8BC718076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B7CD9-4869-47A5-AA1E-44FE97EF53A3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179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333CB-73FD-43B2-B8B7-5D4D91CE310F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23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E9F06-6988-404F-ACF8-1F785FFB849F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267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3A5DB-EF02-440F-A1BC-77E15D1D43FA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11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3AB45-4824-41CA-8A86-B150888586F1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oficio"/>
          <p:cNvPicPr/>
          <p:nvPr/>
        </p:nvPicPr>
        <p:blipFill>
          <a:blip r:embed="rId2"/>
          <a:srcRect l="11818" t="91910" r="0" b="0"/>
          <a:stretch/>
        </p:blipFill>
        <p:spPr>
          <a:xfrm>
            <a:off x="0" y="785880"/>
            <a:ext cx="9144000" cy="123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oficio"/>
          <p:cNvPicPr/>
          <p:nvPr/>
        </p:nvPicPr>
        <p:blipFill>
          <a:blip r:embed="rId3"/>
          <a:srcRect l="0" t="0" r="88182" b="0"/>
          <a:stretch/>
        </p:blipFill>
        <p:spPr>
          <a:xfrm>
            <a:off x="214200" y="71280"/>
            <a:ext cx="642960" cy="8067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oficio"/>
          <p:cNvPicPr/>
          <p:nvPr/>
        </p:nvPicPr>
        <p:blipFill>
          <a:blip r:embed="rId4"/>
          <a:srcRect l="14062" t="0" r="64063" b="49704"/>
          <a:stretch/>
        </p:blipFill>
        <p:spPr>
          <a:xfrm>
            <a:off x="878040" y="133200"/>
            <a:ext cx="1571400" cy="534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oficio"/>
          <p:cNvPicPr/>
          <p:nvPr/>
        </p:nvPicPr>
        <p:blipFill>
          <a:blip r:embed="rId5"/>
          <a:srcRect l="81818" t="36765" r="0" b="8092"/>
          <a:stretch/>
        </p:blipFill>
        <p:spPr>
          <a:xfrm>
            <a:off x="7500960" y="214200"/>
            <a:ext cx="1428840" cy="642960"/>
          </a:xfrm>
          <a:prstGeom prst="rect">
            <a:avLst/>
          </a:prstGeom>
          <a:ln w="0">
            <a:noFill/>
          </a:ln>
        </p:spPr>
      </p:pic>
      <p:pic>
        <p:nvPicPr>
          <p:cNvPr id="355" name="Imagem 1" descr=""/>
          <p:cNvPicPr/>
          <p:nvPr/>
        </p:nvPicPr>
        <p:blipFill>
          <a:blip r:embed="rId6"/>
          <a:stretch/>
        </p:blipFill>
        <p:spPr>
          <a:xfrm>
            <a:off x="8272440" y="6326280"/>
            <a:ext cx="787320" cy="49824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C0F74-8D96-48D0-B577-96CC8B4423C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escentralização da Gestão do município de Ponte Alta do Bom Jes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Espaço Reservado para Número de Slid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975AB-CDA6-4E4F-973A-66EE39A50D58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Tabela 4" descr=""/>
          <p:cNvPicPr/>
          <p:nvPr/>
        </p:nvPicPr>
        <p:blipFill>
          <a:blip r:embed="rId1"/>
          <a:stretch/>
        </p:blipFill>
        <p:spPr>
          <a:xfrm>
            <a:off x="212760" y="1712880"/>
            <a:ext cx="807732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12:40:42Z</dcterms:created>
  <dc:creator>Cleison Lima Moura</dc:creator>
  <dc:description/>
  <dc:language>en-US</dc:language>
  <cp:lastModifiedBy>marleidesilva</cp:lastModifiedBy>
  <cp:lastPrinted>2017-04-12T15:53:19Z</cp:lastPrinted>
  <dcterms:modified xsi:type="dcterms:W3CDTF">2017-04-19T19:16:40Z</dcterms:modified>
  <cp:revision>929</cp:revision>
  <dc:subject/>
  <dc:title>Apresentação do PowerPoint</dc:title>
</cp:coreProperties>
</file>